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C0F-585B-437E-A9D2-2DA5999F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AE7-6D80-494C-B9EB-81486F72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C20-C690-4806-A5BC-B809AD90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3DD-961A-4EDA-9FEB-89F989A9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2245-4DF0-4CFD-9F98-9DEF868F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3888-4B50-4A1B-856C-E2EAC9F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01D1-CD1C-4C08-B6D8-93AB6DB8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75D0-C3F2-41EF-88AA-BB21A54E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8536-CA25-4E32-B11D-996BE359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16E3-A495-46D9-BDC2-2C7AE819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AC81-37D8-40FA-9378-4B8F2210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3CC-6384-47FB-843F-40E1A4B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95CA-EE35-49EA-9673-7C25617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0E33-2788-4559-87B2-87467F7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9211-B9F7-4270-8BC5-FA2692FF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664-A992-4B53-BFF6-EF0BD5AE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164F-4064-4110-8993-823AAE4C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288-D25B-4FC1-BF34-E1882490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9DB-71FA-4B63-B9C2-77A9A55D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EB2-BB30-4DED-9E89-9108AF9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CA8-269C-4D5F-B4A2-20C5FB7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728-84C7-4ED3-A34E-9FC0454F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356-FC7B-4DF1-8C75-AD1A5B9B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290-5DC6-4CF2-912A-6530FC6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3543-0166-4B9D-B376-F6E96CE0BB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573E-410A-455F-9AC6-28D50C1D18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pyright.gov/title17/" TargetMode="External"/><Relationship Id="rId2" Type="http://schemas.openxmlformats.org/officeDocument/2006/relationships/hyperlink" Target="http://codebook.jot.com/WikiHome" TargetMode="External"/><Relationship Id="rId3" Type="http://schemas.openxmlformats.org/officeDocument/2006/relationships/hyperlink" Target="http://fairuse.stanford.edu/" TargetMode="External"/><Relationship Id="rId4" Type="http://schemas.openxmlformats.org/officeDocument/2006/relationships/hyperlink" Target="http://creativecommons.org/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10280" y="5029200"/>
            <a:ext cx="1447920" cy="1447920"/>
          </a:xfrm>
          <a:prstGeom prst="ellipse">
            <a:avLst/>
          </a:prstGeom>
          <a:noFill/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opyright law prim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 the “digital” persp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5257800"/>
            <a:ext cx="434340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ryan roe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october 16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105520"/>
            <a:ext cx="1524240" cy="144756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clusive rights of copyrigh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of rep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of public 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of public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of public displ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prepare derivative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ri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pyright infringeme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Infrin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Li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ory Infrin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infri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ingly con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ce, cause, or materially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carious Infrin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infri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financial 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pyright infringeme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ny v. Univers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US, 198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&amp;M v. Nap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9th Cir, 200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GM v. Grok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US, 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§107 Fa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1) the purpose and character of the us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2) the nature of the copyrighted 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3) the amount …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4) … the potential 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107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“criticism, comment, news reporting, teaching (including multiple copies for classroom use), scholarship, or research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ducation / libra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r use and the “staple article of commerce” def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ony v. Univers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&amp;M v. Naps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verse engin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ga v. Acco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P Safe Harbo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§512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ory Commun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C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Location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and take-down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copyright issu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1978: Life of the author plus 70 years.  Works for hire are 95 or 12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med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s /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/ Attorne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minal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pyright++: the dmca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Millennium Copyright Act (199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P Safe Harbors 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§5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nti-circumven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1201-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mca anti-circumven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Contro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§1201(a)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Contro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§1201(b)(1)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tio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mca anti-circumven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v. ElcomSoft &amp; Skylarov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versal v. Reimer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DNY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ergence of “private” copyrigh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a little bit about the “basics” of copyright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me ways in which copyright law affects your academic discipli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Copyright term extension, complications with “new” medi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DMCA, open source softwa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Fair use, university poli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current issues of interest in technology and traditional / new media impacted by copyright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emporary issu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y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pi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ering public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ath of fair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CA a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 takedown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emporary issu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Com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emporary issu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Thought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’s and collaborativ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ture of books and 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m production (and the Sisyphean ordeal of clearing right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pyright Statute (Title 17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copyright.gov/title17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sica Litman, Digital Copy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va Vaidhyanathan, Copyrights and Copywrongs: The Rise of Intellectual Property and How It Threatens 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Lessig, Code and Other Laws of Cyber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Lessig, Code "2.0" at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codebook.jot.com/Wiki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ik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Lessig, Free Culture: The Nature and Future of 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ford Copyright &amp; Fair Use Cente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fairuse.stanford.edu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ovides a good set of copyright law link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ve Common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http://creativecommons.or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809880"/>
            <a:ext cx="1143000" cy="114300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809880"/>
            <a:ext cx="1143000" cy="114300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2057400"/>
            <a:ext cx="1143000" cy="114300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486880"/>
            <a:ext cx="8001000" cy="201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Arial"/>
              </a:rPr>
              <a:t>Ryan Ro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28701" r="0" b="34429"/>
          <a:stretch/>
        </p:blipFill>
        <p:spPr>
          <a:xfrm>
            <a:off x="2362320" y="3581280"/>
            <a:ext cx="4647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2480"/>
            <a:ext cx="80769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nature has made any one thing less susceptible than all others of exclusive property, it is the action of the thinking power called an idea … He who receives an idea from me, receives instruction himself without lessening mine; as he who lights his taper at mine, receives light without darkening me. … Inventions then cannot, in nature, be a subject of proper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llectual property introdu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ectual Property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llectual property refers to a collection of (often unrelated) legal doctrines that protect creative investments and labo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ically, the protection of everything that is not ”real” proper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llectual property introdu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Forms of Intellectual Proper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de Secr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demar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pyrigh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Forms of Intellectual Proper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y other legal doctrines denoted as “IP”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the right of publicity, Semiconductor Chip Protection Act of 1984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pyright law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752480"/>
            <a:ext cx="7162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 one thing is impossible for God: To find any sense in any copyright law on the plane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qualifica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to U.S. copyright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kip the history of copyright, as well as many important doctrines, special cases, and exceptions within copyright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basics that 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ver will miss many nuances and largely skip the large body of copyright case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ubject matter of copyrigh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ation Requi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…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orks of authorship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any tangible medium of expression …" §102(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ity Requi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ependently created by the author, with a minimal degree of crea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ts and research?: “… the creative is the enemy of the true.”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atthew Bender v. We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2nd Cir, 1998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 / Expression Dichot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no case does copyright protection for an original work of authorship extend to 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ea, procedure, process, system, method of operation, concept, principle, or disco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§102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n” copyrigh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tected categories of work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s of Authorsh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ary, musical, dramatic, pictorial, graphic, sculptural and architectural works; motion pictures; sound recordings; and other categories.  §102(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 and source code of software programs.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pple v. Franklin Comp. Corp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3d Cir, 198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 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transformation, adaptation, or recasting of a copyrighted wor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ollection of copyrighted works (“collective work”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ection and arrangement of facts (“factual compilation”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2:13:47Z</dcterms:created>
  <dc:creator>Ryan Roemer</dc:creator>
  <dc:description/>
  <dc:language>en-US</dc:language>
  <cp:lastModifiedBy>rchin</cp:lastModifiedBy>
  <dcterms:modified xsi:type="dcterms:W3CDTF">2006-10-18T00:35:15Z</dcterms:modified>
  <cp:revision>94</cp:revision>
  <dc:subject/>
  <dc:title>intellectual property</dc:title>
</cp:coreProperties>
</file>